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0F0-C0F9-4737-8429-98AD6CD5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08F-86FC-4147-A97C-5324E78D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EE5B-337B-4F3B-B185-B2305B11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465-DAD6-4890-BE96-D5EC5068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43A-73BB-4748-A1B5-754512D7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B8E5-BF3F-4496-B03E-33013260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8E0-9684-4023-8274-159E55E4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33C4-2307-405C-B125-BDF7AC1B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967-FF7D-4D88-B156-25403AF6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306-B154-4C73-8CEE-63346A69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F9D-4682-4E7F-AF8C-8266F2A0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23F7-B22E-410C-8ED5-736BCB96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6E72-17CB-4636-92F4-F3AC5DC3DFA4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2/16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Concept fo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recruiting interview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Dr. Ralf Schol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 PHE RD Ref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6.02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Interview proces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4-Step-Approach for highest quality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rofile analysis on CV and application on written basi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ocumented phone screening on technical basi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interview on a scheduled recruiting day with all necessary parties available. Parallel interviews of candidates by HR and technical department starting with second candidate. Target to have 4 to 5 candidates screened on one recruiting day.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up to 3 F2F-interviews (Department, HR, upper management)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articipants in the process are dependent on the location.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The common process ensures the same quality level and comprehensive analysis for KLF and MCH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rofile analysi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First analysis has to be done by HR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epartment has to deliver a checklist with degree of fulfillment for evaluation to get an objective judgment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rofile analysis has to be documented by HR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Results have to handed over to management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ositive judged surveys have to handed over to departments 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hone scree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one by the department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basic questionnaire has to be prepared  to check fulfillment degree of requirement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ocumentation of results for evaluation purpose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ecision whether process continuing is needed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articipants are M. Demaria or St.Luxenburger (one of them mandatory) and mandatory a system architect in the location.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ersonal interview in department and HR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etailed technical analysis (hard skills) and social competencies (soft skills)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uration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6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20-30 min for presentation of a given topic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6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~1,5 h for questions (part 1 on a prepared technical questionnaire / part 2 evaluation of the answers in more detail) 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commonly agreed positive result is needed for next step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articipants are K. Rudolph or G. Fässler / M. Demaria or St. Luxenburger and in minimum a Line manager or system architect of the location / J. Rein or HR recruiter (Klf)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F2F-interview with upper managemen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For candidates with capabilities for team leading or executive functionality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talk F2F to Siegfried Bocionek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esult round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After ending  up the interviews a common round will be done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articipants: all involved managers in the interview proces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wrap up to whom an offer will be given.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identification of lacks in interview process or questionnaires to resolve for next recruiting day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Open task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reparation of technical questionnaires for phone screening and first interview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list of technical topics for potential presentation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Questionnaire on emotional framework should be taken from proposal of Siegfried Bocionek. Example questions might be adopted. Revision and feedback from interview team to be done.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Fix schedule of two recruiting days/month to secure availability of all relevant interviewer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reparation of  similar job descriptions for the other key role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cholzR</cp:lastModifiedBy>
  <dcterms:modified xsi:type="dcterms:W3CDTF">2006-02-17T16:39:37Z</dcterms:modified>
  <cp:revision>58</cp:revision>
  <dc:subject/>
  <dc:title>PowerPoint 簡報</dc:title>
</cp:coreProperties>
</file>